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3D1E-59D6-4803-9747-FF32E13F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5350-918B-4891-AF04-5A8E37BF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A5F-E870-471A-A1A9-8B1210C0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B4C2-6A50-49FD-B8D5-97F8FB84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3904-1D58-4277-A973-59510E46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85C0-7C2E-43CF-AC29-63D2E93F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76E6-99E0-4EF6-888F-AB5AC247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F80F-AD49-4E46-B81D-E272AB8E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63F5-D7C8-4C80-8E83-4454CC85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DA8B-7B5A-46B7-B150-2455DD11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934D-F71D-403D-8317-7A197B41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8E0-E0B1-4BAF-9A23-DE6073BD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582B-15D6-49CA-8E1D-A9C8C741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0F72-E84F-4DBD-B092-C380CC56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CF76-445A-4014-911A-EDC822DA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36BA-308D-42E1-A568-D4849C2C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390C-279D-4B87-8968-75BEE09A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F2104-7D37-454C-91D5-5FF3E60C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8A03A-E295-46AC-B4CB-713DB32D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6D3AA-C5D7-41AF-B26D-E3310813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1769D-A440-4BA5-9A73-B3881B43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3935F-2BC5-4000-A768-56B6D3D5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F39B-9CA6-4A62-A0ED-A90576A5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356EB-853D-4B0C-924D-63912CE4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9D099-1CCB-4427-BDBC-69476498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BEB1C-B931-44E8-BB2B-5158E6D5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76E01-E18D-4245-9C5D-5795F4ED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63BCC-D49A-4F35-8245-BA487284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C0F9F-795D-4DBD-B7EA-C3E6CC7D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CA5DE-8E48-462C-BCE2-3D80B072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C5724-726C-4923-8F66-7F5922A8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03459-9C84-4F2C-8F6B-68F27181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74458-0E08-4CB1-8D57-10E83D14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20C9-E756-49E0-8943-D5401E56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362F3-D3FA-439F-BCD1-F69779E3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802C7-EFBB-41A4-9367-53013AE8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99B68-D234-43BB-A6B1-915206F8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CFB8D-513A-498B-88EB-FAB0AA35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C4B24-D59C-4B49-A030-C866435C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7B2BF-F73D-4D4D-A6A4-6C9970B4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2B7B6-725D-454F-9192-14A7FF82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D9DA7-E654-4B1D-8C23-DD719505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5AA08-083D-48CA-AB55-EC6C0F5A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FD0FB-CA02-495C-906E-D0360CC1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1C12-74EF-4A2B-A09F-1D808E45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C1DA0-B010-4325-86A9-6DB9F654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2E3FF-162C-4A6F-84E9-E6D71615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DE21D-1DB3-46CA-9911-6FB84C90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698AF-BB3C-42AA-95A1-E37324AA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30C8C-06B7-4CA2-B33A-E0AA7E52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31B5F-A74A-452E-8D35-5A9CCFD2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08243-F4B6-422D-9AB9-025B40E8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38F04-3FB7-4407-A4C9-A1AEDFD9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BB9D9-AC86-4AC8-BD8B-CB180BAC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C64FC-214F-4F7D-A955-438726ED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9EEA-3563-40E5-B020-C1BC67E3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5E8CF-4B76-4AE0-9307-E286FEDE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E7851-7A87-4BBE-BACF-E652786D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3CACB-14EF-491D-BE99-D4D49102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685BB-D8F6-4097-9521-33649622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3B973-B1B8-48BB-9D34-DC2FB24A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88F32-E051-40D9-8530-2C7AB274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FEFA1-9E29-4597-A954-2C7463F7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EC31A-1E87-4B83-9CCE-FC4511DD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72E82-A52E-44ED-805D-6C5706E9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AED4D-65A3-4795-B9F5-021F4091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690-5339-474C-B9F0-5C206E36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A75E7-53C5-4D3B-A018-DA559DDD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8C88E-F3E1-418E-9902-E2A2BF7E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86A41-D2F5-4C94-A408-F4839C70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5D04B-A7CF-4B01-B089-569A527A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E2E68-2300-4CE9-AE4D-5E34EDE3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5E19D-748A-4D91-9DF0-EE97E9ED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C6825-E454-479B-8CFF-4832CA6A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7AC10-0D64-45C3-B6F4-9AEAF7BF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EAADA-AF9A-442A-806D-55095DBE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24E2F-D015-46FD-A357-5C3DBEDA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1B0C-1DC9-404D-80D1-0CC4943B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623B8-1899-4B6F-964F-D3309FDD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28BDF-EA61-4E5E-8A66-A115CE2A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7126E-5854-40D0-B712-65158F1D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FB662-2FF7-4321-8D12-87BD1E48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AE90A-5B16-4C89-B211-54438CB2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62197-5F58-4CE4-8ED4-88A13B3C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B0030-8ABE-4A08-8E32-BCE1EE8C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07913-5E90-4563-9EBC-CE7D0EB8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B9067-A1D2-464E-A760-8E58250B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45761-14B6-4EA0-85CE-8DBC5ADF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C585-22E8-47BB-9B25-F49D5030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52D63-28B1-4186-AB6E-3D3DF419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E2FCC-F6D8-4806-B3EF-368014D0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80DF9-1BDB-4ECD-8B56-46EACB26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B976D-8186-4E8E-B7F4-D37BA684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C0CBF-247B-481E-BB66-B6DE0036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30B98-4163-44EE-8DAD-7CF9A05B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BD237-60AD-4841-B052-A4A2F98A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608F-47BB-4C21-9615-16DBDA3DF4B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D948-F3EE-42DF-977F-76FA8A5C454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BAE8-9D1D-4B15-B38D-6D533166CCD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BF54-FAA4-4A1C-A259-4D6CA8B1E8E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E366-A07A-4CB2-8217-28DD41C4659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4CD3-68E4-4D8B-924F-C96954BD648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2FD5-8CD1-4EFF-B623-287C3528559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29CC-EA7A-4D83-ACF9-0F3932B4A40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Lucida Sans Unicode"/>
              </a:rPr>
              <a:t>KEY CHALLENGES IN THE DISTRIC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Lucida Sans Unicode"/>
              </a:rPr>
              <a:t>TANZAN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C:\Users\USER\Desktop\9-27-2012(1) IITA BABATI\DSC01887.JPG"/>
          <p:cNvPicPr/>
          <p:nvPr/>
        </p:nvPicPr>
        <p:blipFill>
          <a:blip r:embed="rId2"/>
          <a:stretch/>
        </p:blipFill>
        <p:spPr>
          <a:xfrm>
            <a:off x="950760" y="148104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ak co-operative societi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oor market linkag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ak market inform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oor transportation.eg feeder road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adequate managements skills on how to operate the societi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ack of farm management planning and too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imited financial institutions in rural area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Users\ACT 05\Pictures\Matukio\DSC01119.JPG"/>
          <p:cNvPicPr/>
          <p:nvPr/>
        </p:nvPicPr>
        <p:blipFill>
          <a:blip r:embed="rId2"/>
          <a:stretch/>
        </p:blipFill>
        <p:spPr>
          <a:xfrm>
            <a:off x="838080" y="1481040"/>
            <a:ext cx="71629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re than 80% Depend on agriculture and Livestock for Livelihood majority are agro-pastoralist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e rest earn living on small business and on employmen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oor soil fertility due to continuous cropping without soil nutrient replenishmen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adequate availability/access of improved seed to famer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prices of improved see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rought/Moisture stress/erratic rainfal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sect pest infestation and disease infesta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k linkage between research – extension – farm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farmers networking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ak extension serv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agro processing indust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agro mechanization tools and equip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ck of non tradition crop seeds esp spicies eg; garl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knowledge/information on nutrition aspe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Users\ACT 05\Pictures\9-27-2012(1) IITA BABATI\DSC01942.JPG"/>
          <p:cNvPicPr/>
          <p:nvPr/>
        </p:nvPicPr>
        <p:blipFill>
          <a:blip r:embed="rId2"/>
          <a:stretch/>
        </p:blipFill>
        <p:spPr>
          <a:xfrm>
            <a:off x="885960" y="1481040"/>
            <a:ext cx="737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C:\Users\ACT 05\Pictures\9-27-2012(1) IITA BABATI\DSC01938.JPG"/>
          <p:cNvPicPr/>
          <p:nvPr/>
        </p:nvPicPr>
        <p:blipFill>
          <a:blip r:embed="rId2"/>
          <a:stretch/>
        </p:blipFill>
        <p:spPr>
          <a:xfrm>
            <a:off x="1084320" y="1481040"/>
            <a:ext cx="697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Unavailability of improved breed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verstock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ack of improved pasture seed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est and diseas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scalating conflict between livestock keepers and farmers.(land use plan/destock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adequate livestock infrastructure: e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t cen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al Dip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vestock mark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adequate water for livesto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agro processing indust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5:16:15Z</dcterms:created>
  <dc:creator>ACT 05</dc:creator>
  <dc:description/>
  <dc:language>en-US</dc:language>
  <cp:lastModifiedBy>ACT 05</cp:lastModifiedBy>
  <dcterms:modified xsi:type="dcterms:W3CDTF">2012-10-02T09:06:23Z</dcterms:modified>
  <cp:revision>19</cp:revision>
  <dc:subject/>
  <dc:title>KEY DEVELOPING A DEMAND-DRIVEN RESEARCH AGENDA</dc:title>
</cp:coreProperties>
</file>